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520E8D-2F76-4DB9-9ADD-8A166A3370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C327F-6F79-41F7-904F-B92212DB4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FAE4E-41F9-4DF7-A65F-F26C4151D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20BD82-57DB-4F5F-86AE-E829D352D4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ABA406-505E-48DE-BA24-24621273F6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378ABF-EBD1-4D37-85B1-9E7B9C2CED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C73B8-4DA2-40E5-B26C-FC55872B8E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0852D9-67E6-4D35-B0A6-119BA2FFA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5699D5-9D9E-4C15-8CD5-8FC978EE4B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BF85F-EF50-4B40-821C-BE872D1C5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97AFB-4595-49BD-9AE2-8C892680D5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6AC8B-44BD-4319-A388-0AF6DD369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CB632-1463-4631-9AB1-4C278CB3E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321EE-B517-43BC-A61D-B4A3D0F94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7FB694-AB76-48B5-ABD9-20BEAD799C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ED9DD6-2ECE-45DE-AA8A-69424CCA40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DEDCD2-6FF4-4466-9C68-38FE4AE684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9DEF29D-E307-4D29-9A9D-154445117C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591E62A-9544-49AA-96D4-EA48B25635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26BA875-25F6-42FB-80BA-B01C4D3825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1549D7D-58F4-48E7-8736-20D2057BCE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23E1209-80FD-4B35-9667-940C32D547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4A19C-FB96-40DE-A1F9-A02A0BA40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F54AD91-457A-4E84-8BCE-470452BCF1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B88DAC6-CDD0-4CA0-BD9A-6E1556D510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B7DB894-BF91-4846-9354-3B919D92B6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9E6B9D9-1869-4BD5-8311-C825C2394C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512EDE5-04F5-4F0D-9AEB-C00B9289F3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120CD0D-0310-4FB0-B6E9-96D47F1E29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240D54E-81FC-40FD-91F5-DCCC3ECA6A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B18AAC-322A-44F6-8AE1-13921C892F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CE078D-4D3D-4EAD-8A45-A9AAC40DCC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4093E6-8461-4EF5-8E69-BA89936A3F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52655-A425-42BA-AF9A-8C1E56FDC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CB0859-8341-46AF-9312-C6E7E3823E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769329-0FEA-41E8-BE89-50BBC0D6E0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98E8B6-8934-4B9D-922A-A2CC2B168E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E63D0F-3752-4ED0-A0F4-B27EB88D28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F4FBCD-2557-4767-B68A-817A6FEE27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153DFE-FFFF-4D20-9DD1-E3B16A67AE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916E5B-4B4C-4822-8EBC-1FDF50041E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CAB024-8A3F-4867-81E5-EBD18D5807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836312-A89C-4BA4-85DD-E2A46E4EC3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0BC1171-B4AE-4E94-8E70-3110E120F8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6827F-31D2-45CB-8DFA-BBD53B2E9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A8B8690-A24C-41E7-9ABA-00F8901436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17BCC0E-752C-4BCD-B3D7-0EB3F3490E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1C881C5-A652-4D1F-BDA5-A7E3D0FEBD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C3DDD31-11E9-42E0-BF67-9E45286980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3AC74FA-C3CD-4290-8163-E2AB3C453F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28766D7-6EDE-4A9D-B945-31095B5078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0A37499-E2F7-4D0A-964A-202FB79255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55F31A7-9C19-4E51-91C9-DC4F04F552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F850407-BE95-42D2-AB9F-0312D802CB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E7F085F-A525-475A-921F-72ADFD7EAD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9E0F6-07D2-43A2-A07A-868ABDF49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89000F1-F2E6-48A5-BCE2-721D622BFD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27BF17A-DA5A-442C-BC68-73D02CB58A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79A5676-0B51-4AB1-80C5-05D4D69644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F2EE456-C808-4B97-90F7-510C9CAA70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8187C72-B2E5-4586-B259-9F9EFAC49A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7F0B8D4-A564-4D48-AC20-4EAE40E085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06E9088-1020-46EC-8A6F-5B5FBB7353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0E7169E-524E-46A6-AF8D-B8DB2BCA18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3C8E193-05F2-4ABB-A946-2C1694C4B7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6D08C64-2CDC-4171-8629-D0B43A43F7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9FBB8-BA08-448D-A2AF-5B46AA5D6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A302F84-0AA2-4C2C-BC7C-D8988DFFA7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CC9D280-7AAB-4F10-B42D-186E39FB8E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556C123E-8DD5-49F5-AA94-9DBB9E1E39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F07BE24-DF55-4C6C-9234-D78D958BE5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D6003CA-6104-42B8-A667-41E34A9880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C79A7C1-3B35-4E77-8F0F-8055FF7754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493348C-DF17-4298-8501-7BD0A92389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34AF7D2-C622-4C77-AA82-6ED78F3C19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2966BB4-A6C8-42FA-BD39-2A188CFA08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AB8ACC2-643C-4FC3-8840-1EFCA53877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570D1-198A-434B-9D59-23CE9F3FA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A25B387-BA71-45E2-B590-5BC56BC95D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C37BB9A-28A6-4D61-8226-58642080D7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3006ABB-92A5-49F3-9BB1-6467096026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71C9B97-F27E-4917-A205-F1D5CF5ADC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00BDD08-EDB9-4D80-8001-259CD99CED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2DFB4-D396-4F79-B23B-1235C005E0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091E2-B4BC-4661-8E38-BEB91CE0778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4995A-FF7E-4663-BEF6-1944C42B91A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ADB52-6CFE-4F95-9A66-83C9910F009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05BC2-C373-444D-AFF9-9A4B35347F4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CD252-F451-43FB-A538-61871EAFC0F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0874C-24BB-4745-9607-79FCE27A8D8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BFAE1-E1EA-4284-AEFC-59932A8E4D4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1676520"/>
            <a:ext cx="7772400" cy="860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575f6d"/>
                </a:solidFill>
                <a:latin typeface="Century Schoolbook"/>
              </a:rPr>
              <a:t>WONDERS OF COLORS</a:t>
            </a:r>
            <a:endParaRPr b="0" lang="en-US" sz="5400" spc="-1" strike="noStrike">
              <a:solidFill>
                <a:srgbClr val="575f6d"/>
              </a:solidFill>
              <a:latin typeface="Century Schoolbook"/>
            </a:endParaRPr>
          </a:p>
        </p:txBody>
      </p:sp>
      <p:sp>
        <p:nvSpPr>
          <p:cNvPr id="352" name="PlaceHolder 2"/>
          <p:cNvSpPr>
            <a:spLocks noGrp="1"/>
          </p:cNvSpPr>
          <p:nvPr>
            <p:ph type="subTitle"/>
          </p:nvPr>
        </p:nvSpPr>
        <p:spPr>
          <a:xfrm>
            <a:off x="1905120" y="3428640"/>
            <a:ext cx="6400800" cy="609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Chloe Argyll C. Mabunga</a:t>
            </a:r>
            <a:endParaRPr b="0" lang="en-US" sz="36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Rick Anthony Jaramillo</a:t>
            </a:r>
            <a:endParaRPr b="0" lang="en-US" sz="3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p:nvPr>
        </p:nvSpPr>
        <p:spPr>
          <a:xfrm>
            <a:off x="609480" y="1603440"/>
            <a:ext cx="746784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Target Audience:</a:t>
            </a:r>
            <a:r>
              <a:rPr b="0" lang="en-US" sz="2800" spc="-1" strike="noStrike">
                <a:solidFill>
                  <a:srgbClr val="000000"/>
                </a:solidFill>
                <a:latin typeface="Century Schoolbook"/>
              </a:rPr>
              <a:t> Kinder 2</a:t>
            </a:r>
            <a:endParaRPr b="0" lang="en-US" sz="28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Subject matter:</a:t>
            </a:r>
            <a:r>
              <a:rPr b="0" lang="en-US" sz="2800" spc="-1" strike="noStrike">
                <a:solidFill>
                  <a:srgbClr val="000000"/>
                </a:solidFill>
                <a:latin typeface="Century Schoolbook"/>
              </a:rPr>
              <a:t> Preschool Mathematics</a:t>
            </a:r>
            <a:endParaRPr b="0" lang="en-US" sz="28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	</a:t>
            </a:r>
            <a:r>
              <a:rPr b="0" lang="en-US" sz="2800" spc="-1" strike="noStrike">
                <a:solidFill>
                  <a:srgbClr val="000000"/>
                </a:solidFill>
                <a:latin typeface="Century Schoolbook"/>
              </a:rPr>
              <a:t>Colors (primary and secondary colors)</a:t>
            </a:r>
            <a:endParaRPr b="0" lang="en-US" sz="28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457200"/>
            <a:ext cx="7467480" cy="579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Century Schoolbook"/>
              </a:rPr>
              <a:t>UNIT SUMMARY</a:t>
            </a:r>
            <a:endParaRPr b="0" lang="en-US" sz="3200" spc="-1" strike="noStrike">
              <a:solidFill>
                <a:srgbClr val="575f6d"/>
              </a:solidFill>
              <a:latin typeface="Century Schoolbook"/>
            </a:endParaRPr>
          </a:p>
        </p:txBody>
      </p:sp>
      <p:sp>
        <p:nvSpPr>
          <p:cNvPr id="355" name=""/>
          <p:cNvSpPr txBox="1"/>
          <p:nvPr/>
        </p:nvSpPr>
        <p:spPr>
          <a:xfrm>
            <a:off x="456840" y="1371600"/>
            <a:ext cx="80773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In the 21</a:t>
            </a:r>
            <a:r>
              <a:rPr b="0" lang="en-US" sz="2600" spc="-1" strike="noStrike" baseline="30000">
                <a:solidFill>
                  <a:srgbClr val="000000"/>
                </a:solidFill>
                <a:latin typeface="Century Schoolbook"/>
              </a:rPr>
              <a:t>st</a:t>
            </a:r>
            <a:r>
              <a:rPr b="0" lang="en-US" sz="2600" spc="-1" strike="noStrike">
                <a:solidFill>
                  <a:srgbClr val="000000"/>
                </a:solidFill>
                <a:latin typeface="Century Schoolbook"/>
              </a:rPr>
              <a:t> century, preschool learners are faced in the advancing technology. Colors can be seen almost everywhere, thus it requires basic understanding on the concepts of colors.  Pupils will identify, explain, and explore colors in their classroom and environment.   The colors the pupils will learn in this unit include the primary and secondary colors. Each day for 1 week during one session the focus will be on one color.  During these sessions, the students will learn about colors by using many different activities/teaching strategies. </a:t>
            </a:r>
            <a:endParaRPr b="0" lang="en-US" sz="2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761760" y="457200"/>
            <a:ext cx="7467480" cy="579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CURRICULUM-FRAMING QUESTIONS</a:t>
            </a:r>
            <a:endParaRPr b="0" lang="en-US" sz="3000" spc="-1" strike="noStrike">
              <a:solidFill>
                <a:srgbClr val="575f6d"/>
              </a:solidFill>
              <a:latin typeface="Century Schoolbook"/>
            </a:endParaRPr>
          </a:p>
        </p:txBody>
      </p:sp>
      <p:sp>
        <p:nvSpPr>
          <p:cNvPr id="357" name=""/>
          <p:cNvSpPr txBox="1"/>
          <p:nvPr/>
        </p:nvSpPr>
        <p:spPr>
          <a:xfrm>
            <a:off x="380520" y="1295280"/>
            <a:ext cx="8153640" cy="4873680"/>
          </a:xfrm>
          <a:prstGeom prst="rect">
            <a:avLst/>
          </a:prstGeom>
          <a:noFill/>
          <a:ln w="0">
            <a:noFill/>
          </a:ln>
        </p:spPr>
        <p:txBody>
          <a:bodyPr lIns="90000" rIns="90000" tIns="46800" bIns="46800" anchor="t">
            <a:normAutofit fontScale="94000"/>
          </a:bodyPr>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entury Schoolbook"/>
              </a:rPr>
              <a:t> </a:t>
            </a:r>
            <a:endParaRPr b="0" lang="en-US" sz="600" spc="-1" strike="noStrike">
              <a:solidFill>
                <a:srgbClr val="000000"/>
              </a:solidFill>
              <a:latin typeface="Century Schoolbook"/>
            </a:endParaRPr>
          </a:p>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Essential Question </a:t>
            </a:r>
            <a:endParaRPr b="0" lang="en-US" sz="2400" spc="-1" strike="noStrike">
              <a:solidFill>
                <a:srgbClr val="000000"/>
              </a:solidFill>
              <a:latin typeface="Century Schoolbook"/>
            </a:endParaRPr>
          </a:p>
          <a:p>
            <a:pPr marL="256320" indent="-2563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life would be without colors?</a:t>
            </a:r>
            <a:endParaRPr b="0" lang="en-US" sz="2400" spc="-1" strike="noStrike">
              <a:solidFill>
                <a:srgbClr val="000000"/>
              </a:solidFill>
              <a:latin typeface="Century Schoolbook"/>
            </a:endParaRPr>
          </a:p>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Unit Questions</a:t>
            </a:r>
            <a:endParaRPr b="0" lang="en-US" sz="2400" spc="-1" strike="noStrike">
              <a:solidFill>
                <a:srgbClr val="000000"/>
              </a:solidFill>
              <a:latin typeface="Century Schoolbook"/>
            </a:endParaRPr>
          </a:p>
          <a:p>
            <a:pPr marL="256320" indent="-2563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an a color be changed into another color and how?</a:t>
            </a:r>
            <a:endParaRPr b="0" lang="en-US" sz="2400" spc="-1" strike="noStrike">
              <a:solidFill>
                <a:srgbClr val="000000"/>
              </a:solidFill>
              <a:latin typeface="Century Schoolbook"/>
            </a:endParaRPr>
          </a:p>
          <a:p>
            <a:pPr marL="256320" indent="-2563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 our environment, where do you find colors and what do these colors mean to us?</a:t>
            </a:r>
            <a:endParaRPr b="0" lang="en-US" sz="2400" spc="-1" strike="noStrike">
              <a:solidFill>
                <a:srgbClr val="000000"/>
              </a:solidFill>
              <a:latin typeface="Century Schoolbook"/>
            </a:endParaRPr>
          </a:p>
          <a:p>
            <a:pPr marL="256320" indent="-2563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will happen if you mix all colors together?</a:t>
            </a:r>
            <a:endParaRPr b="0" lang="en-US" sz="2400" spc="-1" strike="noStrike">
              <a:solidFill>
                <a:srgbClr val="000000"/>
              </a:solidFill>
              <a:latin typeface="Century Schoolbook"/>
            </a:endParaRPr>
          </a:p>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Content Questions</a:t>
            </a:r>
            <a:endParaRPr b="0" lang="en-US" sz="2400" spc="-1" strike="noStrike">
              <a:solidFill>
                <a:srgbClr val="000000"/>
              </a:solidFill>
              <a:latin typeface="Century Schoolbook"/>
            </a:endParaRPr>
          </a:p>
          <a:p>
            <a:pPr marL="256320" indent="-2563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are primary colors?</a:t>
            </a:r>
            <a:endParaRPr b="0" lang="en-US" sz="2400" spc="-1" strike="noStrike">
              <a:solidFill>
                <a:srgbClr val="000000"/>
              </a:solidFill>
              <a:latin typeface="Century Schoolbook"/>
            </a:endParaRPr>
          </a:p>
          <a:p>
            <a:pPr marL="256320" indent="-2563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are secondary colors?</a:t>
            </a:r>
            <a:endParaRPr b="0" lang="en-US" sz="2400" spc="-1" strike="noStrike">
              <a:solidFill>
                <a:srgbClr val="000000"/>
              </a:solidFill>
              <a:latin typeface="Century Schoolbook"/>
            </a:endParaRPr>
          </a:p>
          <a:p>
            <a:pPr marL="256320" indent="-2563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two primary colors mixed together make purple, green, and orange?</a:t>
            </a:r>
            <a:endParaRPr b="0" lang="en-US" sz="2400" spc="-1" strike="noStrike">
              <a:solidFill>
                <a:srgbClr val="000000"/>
              </a:solidFill>
              <a:latin typeface="Century Schoolbook"/>
            </a:endParaRPr>
          </a:p>
          <a:p>
            <a:pPr marL="256320" indent="-2563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361960" y="609480"/>
            <a:ext cx="426708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ASSESSMENT TIMELINE</a:t>
            </a:r>
            <a:endParaRPr b="0" lang="en-US" sz="2800" spc="-1" strike="noStrike">
              <a:solidFill>
                <a:srgbClr val="575f6d"/>
              </a:solidFill>
              <a:latin typeface="Century Schoolbook"/>
            </a:endParaRPr>
          </a:p>
        </p:txBody>
      </p:sp>
      <p:graphicFrame>
        <p:nvGraphicFramePr>
          <p:cNvPr id="359" name=""/>
          <p:cNvGraphicFramePr/>
          <p:nvPr/>
        </p:nvGraphicFramePr>
        <p:xfrm>
          <a:off x="228600" y="1295280"/>
          <a:ext cx="8458200" cy="5059440"/>
        </p:xfrm>
        <a:graphic>
          <a:graphicData uri="http://schemas.openxmlformats.org/drawingml/2006/table">
            <a:tbl>
              <a:tblPr/>
              <a:tblGrid>
                <a:gridCol w="1949400"/>
                <a:gridCol w="2416320"/>
                <a:gridCol w="4092480"/>
              </a:tblGrid>
              <a:tr h="100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Before project work begins</a:t>
                      </a:r>
                      <a:endParaRPr b="0" lang="en-US" sz="2000" spc="-1" strike="noStrike">
                        <a:solidFill>
                          <a:srgbClr val="000000"/>
                        </a:solidFill>
                        <a:latin typeface="Century School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Students work on projects and complete tasks</a:t>
                      </a:r>
                      <a:endParaRPr b="0" lang="en-US" sz="2000" spc="-1" strike="noStrike">
                        <a:solidFill>
                          <a:srgbClr val="000000"/>
                        </a:solidFill>
                        <a:latin typeface="Century School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After project work is completed</a:t>
                      </a:r>
                      <a:endParaRPr b="0" lang="en-US" sz="2000" spc="-1" strike="noStrike">
                        <a:solidFill>
                          <a:srgbClr val="000000"/>
                        </a:solidFill>
                        <a:latin typeface="Century School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4057920">
                <a:tc>
                  <a:txBody>
                    <a:bodyPr lIns="90000" rIns="90000" tIns="46800" bIns="46800" anchor="t">
                      <a:noAutofit/>
                    </a:bodyPr>
                    <a:p>
                      <a:pPr>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rhetoric questioning</a:t>
                      </a:r>
                      <a:endParaRPr b="0" lang="en-US" sz="2000" spc="-1" strike="noStrike">
                        <a:solidFill>
                          <a:srgbClr val="000000"/>
                        </a:solidFill>
                        <a:latin typeface="Century Schoolbook"/>
                      </a:endParaRPr>
                    </a:p>
                    <a:p>
                      <a:pPr>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inging of song</a:t>
                      </a:r>
                      <a:endParaRPr b="0" lang="en-US" sz="20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t">
                      <a:noAutofit/>
                    </a:bodyPr>
                    <a:p>
                      <a:pPr>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ctivities</a:t>
                      </a:r>
                      <a:endParaRPr b="0" lang="en-US" sz="2000" spc="-1" strike="noStrike">
                        <a:solidFill>
                          <a:srgbClr val="000000"/>
                        </a:solidFill>
                        <a:latin typeface="Century Schoolbook"/>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coloring</a:t>
                      </a:r>
                      <a:endParaRPr b="0" lang="en-US" sz="2000" spc="-1" strike="noStrike">
                        <a:solidFill>
                          <a:srgbClr val="000000"/>
                        </a:solidFill>
                        <a:latin typeface="Century Schoolbook"/>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group activity</a:t>
                      </a:r>
                      <a:endParaRPr b="0" lang="en-US" sz="2000" spc="-1" strike="noStrike">
                        <a:solidFill>
                          <a:srgbClr val="000000"/>
                        </a:solidFill>
                        <a:latin typeface="Century Schoolbook"/>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mixing of colors</a:t>
                      </a:r>
                      <a:endParaRPr b="0" lang="en-US" sz="20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t">
                      <a:noAutofit/>
                    </a:bodyPr>
                    <a:p>
                      <a:pPr>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erformance evaluation</a:t>
                      </a:r>
                      <a:endParaRPr b="0" lang="en-US" sz="2000" spc="-1" strike="noStrike">
                        <a:solidFill>
                          <a:srgbClr val="000000"/>
                        </a:solidFill>
                        <a:latin typeface="Century Schoolbook"/>
                      </a:endParaRPr>
                    </a:p>
                    <a:p>
                      <a:pPr>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quiz 1: match colors with word</a:t>
                      </a:r>
                      <a:endParaRPr b="0" lang="en-US" sz="20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names (matching format)</a:t>
                      </a:r>
                      <a:endParaRPr b="0" lang="en-US" sz="2000" spc="-1" strike="noStrike">
                        <a:solidFill>
                          <a:srgbClr val="000000"/>
                        </a:solidFill>
                        <a:latin typeface="Century Schoolbook"/>
                      </a:endParaRPr>
                    </a:p>
                    <a:p>
                      <a:pPr>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Color Assessment worksheet will be used after the pupils’ complete the activities.  This assessment will indicate if students understand what objects can be yellow, red, orange, etc… and what objects can not be yellow, red, orange, etc…. </a:t>
                      </a:r>
                      <a:endParaRPr b="0" lang="en-US" sz="2000" spc="-1" strike="noStrike">
                        <a:solidFill>
                          <a:srgbClr val="000000"/>
                        </a:solidFill>
                        <a:latin typeface="Century Schoolbook"/>
                      </a:endParaRPr>
                    </a:p>
                    <a:p>
                      <a:pPr>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ortfolio assessment</a:t>
                      </a:r>
                      <a:endParaRPr b="0" lang="en-US" sz="2000" spc="-1" strike="noStrike">
                        <a:solidFill>
                          <a:srgbClr val="000000"/>
                        </a:solidFill>
                        <a:latin typeface="Century School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981080" y="685800"/>
            <a:ext cx="5181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Century Schoolbook"/>
              </a:rPr>
              <a:t>ASSESSMENT SUMMARY</a:t>
            </a:r>
            <a:endParaRPr b="0" lang="en-US" sz="3200" spc="-1" strike="noStrike">
              <a:solidFill>
                <a:srgbClr val="575f6d"/>
              </a:solidFill>
              <a:latin typeface="Century Schoolbook"/>
            </a:endParaRPr>
          </a:p>
        </p:txBody>
      </p:sp>
      <p:sp>
        <p:nvSpPr>
          <p:cNvPr id="361" name=""/>
          <p:cNvSpPr txBox="1"/>
          <p:nvPr/>
        </p:nvSpPr>
        <p:spPr>
          <a:xfrm>
            <a:off x="304560" y="1218960"/>
            <a:ext cx="8381880" cy="4647960"/>
          </a:xfrm>
          <a:prstGeom prst="rect">
            <a:avLst/>
          </a:prstGeom>
          <a:noFill/>
          <a:ln w="0">
            <a:noFill/>
          </a:ln>
        </p:spPr>
        <p:txBody>
          <a:bodyPr lIns="90000" rIns="90000" tIns="46800" bIns="46800" anchor="t">
            <a:normAutofit fontScale="91000"/>
          </a:bodyPr>
          <a:p>
            <a:pPr marL="248040" indent="-24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	</a:t>
            </a:r>
            <a:r>
              <a:rPr b="0" lang="en-US" sz="3000" spc="-1" strike="noStrike">
                <a:solidFill>
                  <a:srgbClr val="000000"/>
                </a:solidFill>
                <a:latin typeface="Century Schoolbook"/>
              </a:rPr>
              <a:t>The assessments used for this unit are all chosen to facilitate the process of self-direction, collaboration, and the use of appropriate materials that will present their learning about colors. This will begin with a series of activities comprising both collaborative and individual. Pupils are also observed during the performance task. Finally, the portfolios which are the compilations of their art works and coloring activities will conclude their unit experience.</a:t>
            </a:r>
            <a:endParaRPr b="0" lang="en-US" sz="3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8T01:30:46Z</dcterms:created>
  <dc:creator>Student</dc:creator>
  <dc:description/>
  <dc:language>en-US</dc:language>
  <cp:lastModifiedBy>nave1386</cp:lastModifiedBy>
  <dcterms:modified xsi:type="dcterms:W3CDTF">2010-09-20T19:50:19Z</dcterms:modified>
  <cp:revision>5</cp:revision>
  <dc:subject/>
  <dc:title>Slide 1</dc:title>
</cp:coreProperties>
</file>